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8F7-0714-4A14-85E1-5DE3F6BB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F9E-BAE3-4B5B-A064-A47D90D7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927-3E07-4E84-B7EE-873FD5EB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D86-DACC-4067-B3D6-99500D25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2AF-A639-45E9-B2A6-B002B8C4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903-958B-4221-9ED7-64237A3F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CE2-D217-4677-821C-9A9A6DB4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381-2AE8-4C7A-A44B-0D444C44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632-23AB-4145-A614-0147D8AD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82B-CE41-4722-89FC-0B27A87A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D7A-F5A6-4273-A7EB-70ADAD30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461-4FBB-4A9C-92A6-35FF9942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497E-52BD-4CAF-A506-5A806E6D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paring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EALR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by #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673280"/>
            <a:ext cx="624852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EALRs Components GLEs &#10;"/>
          <p:cNvPicPr/>
          <p:nvPr/>
        </p:nvPicPr>
        <p:blipFill>
          <a:blip r:embed="rId1"/>
          <a:stretch/>
        </p:blipFill>
        <p:spPr>
          <a:xfrm>
            <a:off x="0" y="0"/>
            <a:ext cx="8915400" cy="65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ff66"/>
                </a:solidFill>
                <a:latin typeface="Arial"/>
              </a:rPr>
              <a:t>3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vs. </a:t>
            </a:r>
            <a:r>
              <a:rPr b="0" lang="en-US" sz="9600" spc="-1" strike="noStrike">
                <a:solidFill>
                  <a:srgbClr val="00ccff"/>
                </a:solidFill>
                <a:latin typeface="Arial"/>
              </a:rPr>
              <a:t>176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6094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lmost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one GLE a day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n </a:t>
            </a:r>
            <a:br>
              <a:rPr sz="4800"/>
            </a:br>
            <a:r>
              <a:rPr b="0" lang="en-US" sz="72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0" lang="en-US" sz="72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e.</a:t>
            </a:r>
            <a:br>
              <a:rPr sz="4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Social Studies or Ar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My question:</a:t>
            </a: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can we bring elementary teachers on board without  creating the feeling we are adding something to a plate already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verflowing with standards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ine print: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veraged the components and GLEs for technology, looking at the trends for the other curriculum areas. 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no, I don’t have an answer to my question. Y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47200" y="6324480"/>
            <a:ext cx="4968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7200" spc="-1" strike="noStrike">
                <a:solidFill>
                  <a:srgbClr val="66ff66"/>
                </a:solidFill>
                <a:latin typeface="Arial"/>
              </a:rPr>
              <a:t>u</a:t>
            </a:r>
            <a:r>
              <a:rPr b="0" lang="en-US" sz="7200" spc="-1" strike="noStrike">
                <a:solidFill>
                  <a:srgbClr val="00ccff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66ff66"/>
                </a:solidFill>
                <a:latin typeface="Arial"/>
              </a:rPr>
              <a:t>e</a:t>
            </a:r>
            <a:r>
              <a:rPr b="0" lang="en-US" sz="7200" spc="-1" strike="noStrike">
                <a:solidFill>
                  <a:srgbClr val="00ccff"/>
                </a:solidFill>
                <a:latin typeface="Arial"/>
              </a:rPr>
              <a:t>r</a:t>
            </a: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AL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will I need to add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66"/>
                </a:solidFill>
                <a:latin typeface="Arial"/>
              </a:rPr>
              <a:t>10th Grade Scien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ff"/>
                </a:solidFill>
                <a:latin typeface="Arial"/>
              </a:rPr>
              <a:t>5th Grade Everyth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28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t’s Compa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04920"/>
            <a:ext cx="259056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10</a:t>
            </a:r>
            <a:r>
              <a:rPr b="0" lang="en-US" sz="4400" spc="-1" strike="noStrike" baseline="30000">
                <a:solidFill>
                  <a:srgbClr val="66ff6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 Grade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1066680"/>
            <a:ext cx="5257800" cy="5105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2362320"/>
            <a:ext cx="266724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EAL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59436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EALRs&#10;5th Grade"/>
          <p:cNvPicPr/>
          <p:nvPr/>
        </p:nvPicPr>
        <p:blipFill>
          <a:blip r:embed="rId1"/>
          <a:stretch/>
        </p:blipFill>
        <p:spPr>
          <a:xfrm>
            <a:off x="237960" y="471600"/>
            <a:ext cx="8668080" cy="59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5943600"/>
            <a:ext cx="83818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04920"/>
            <a:ext cx="2286000" cy="254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1" lang="en-US" sz="40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 Grade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ff66"/>
                </a:solidFill>
                <a:latin typeface="Arial"/>
              </a:rPr>
              <a:t>3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1700" spc="-1" strike="noStrike">
                <a:solidFill>
                  <a:srgbClr val="00ccff"/>
                </a:solidFill>
                <a:latin typeface="Arial"/>
              </a:rPr>
              <a:t>2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0" lang="en-US" sz="6000" spc="-1" strike="noStrike">
                <a:solidFill>
                  <a:srgbClr val="66ff66"/>
                </a:solidFill>
                <a:latin typeface="Arial"/>
              </a:rPr>
              <a:t>10</a:t>
            </a:r>
            <a:r>
              <a:rPr b="0" lang="en-US" sz="6000" spc="-1" strike="noStrike" baseline="30000">
                <a:solidFill>
                  <a:srgbClr val="66ff66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66ff66"/>
                </a:solidFill>
                <a:latin typeface="Arial"/>
              </a:rPr>
              <a:t> Grad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LR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hake down into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Component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L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EALRs Components GLEs"/>
          <p:cNvPicPr/>
          <p:nvPr/>
        </p:nvPicPr>
        <p:blipFill>
          <a:blip r:embed="rId1"/>
          <a:stretch/>
        </p:blipFill>
        <p:spPr>
          <a:xfrm>
            <a:off x="0" y="0"/>
            <a:ext cx="8667720" cy="5915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9112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ooks a Little Different in </a:t>
            </a:r>
            <a:r>
              <a:rPr b="0" lang="en-US" sz="80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0" lang="en-US" sz="80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ad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17:28Z</dcterms:created>
  <dc:creator>BSD501</dc:creator>
  <dc:description/>
  <dc:language>en-US</dc:language>
  <cp:lastModifiedBy>BSD501</cp:lastModifiedBy>
  <dcterms:modified xsi:type="dcterms:W3CDTF">2008-01-15T01:24:01Z</dcterms:modified>
  <cp:revision>5</cp:revision>
  <dc:subject/>
  <dc:title>Slide 1</dc:title>
</cp:coreProperties>
</file>